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his%20is%20Jeopardy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19C3-82E4-4C4E-AD9E-2E2E8B6FE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FD23-A6BA-4AE0-84A8-288CF6A0A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3409-FC4F-438F-8F41-1679558E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2AD2-6277-4307-92D5-EE94BE3C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2B8A-8D96-41AC-97A2-ACABC906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4761-5D58-4747-ACEF-B88F419D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9B55-A650-47AD-BAAB-1C8DFDF3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A5CB-B44D-40CC-BEE8-333B470D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C83B-781E-4F27-8F05-0C0DFBC7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A470-2F00-47C1-A26F-A69191C1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4E16-166D-46C9-9C15-DBFD54C5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7468-F6C8-4F89-A36C-293D315B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5E7D-B4F9-4426-B1B2-EE4EADA8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8974-68AC-4059-8829-FD137F85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1120-50F8-4CBE-AF01-A3AF34D0E2BC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audio" Target="../media/This%20is%20Jeopardy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slide" Target="slide55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9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" Target="slide15.xml"/><Relationship Id="rId11" Type="http://schemas.openxmlformats.org/officeDocument/2006/relationships/slide" Target="slide25.xml"/><Relationship Id="rId12" Type="http://schemas.openxmlformats.org/officeDocument/2006/relationships/slide" Target="slide35.xml"/><Relationship Id="rId13" Type="http://schemas.openxmlformats.org/officeDocument/2006/relationships/slide" Target="slide45.xml"/><Relationship Id="rId14" Type="http://schemas.openxmlformats.org/officeDocument/2006/relationships/slide" Target="slide17.xml"/><Relationship Id="rId15" Type="http://schemas.openxmlformats.org/officeDocument/2006/relationships/slide" Target="slide27.xml"/><Relationship Id="rId16" Type="http://schemas.openxmlformats.org/officeDocument/2006/relationships/slide" Target="slide37.xml"/><Relationship Id="rId17" Type="http://schemas.openxmlformats.org/officeDocument/2006/relationships/slide" Target="slide47.xml"/><Relationship Id="rId18" Type="http://schemas.openxmlformats.org/officeDocument/2006/relationships/slide" Target="slide19.xml"/><Relationship Id="rId19" Type="http://schemas.openxmlformats.org/officeDocument/2006/relationships/slide" Target="slide21.xml"/><Relationship Id="rId20" Type="http://schemas.openxmlformats.org/officeDocument/2006/relationships/slide" Target="slide23.xml"/><Relationship Id="rId21" Type="http://schemas.openxmlformats.org/officeDocument/2006/relationships/slide" Target="slide29.xml"/><Relationship Id="rId22" Type="http://schemas.openxmlformats.org/officeDocument/2006/relationships/slide" Target="slide39.xml"/><Relationship Id="rId23" Type="http://schemas.openxmlformats.org/officeDocument/2006/relationships/slide" Target="slide49.xml"/><Relationship Id="rId24" Type="http://schemas.openxmlformats.org/officeDocument/2006/relationships/slide" Target="slide31.xml"/><Relationship Id="rId25" Type="http://schemas.openxmlformats.org/officeDocument/2006/relationships/slide" Target="slide41.xml"/><Relationship Id="rId26" Type="http://schemas.openxmlformats.org/officeDocument/2006/relationships/slide" Target="slide51.xml"/><Relationship Id="rId27" Type="http://schemas.openxmlformats.org/officeDocument/2006/relationships/slide" Target="slide33.xml"/><Relationship Id="rId28" Type="http://schemas.openxmlformats.org/officeDocument/2006/relationships/slide" Target="slide43.xml"/><Relationship Id="rId29" Type="http://schemas.openxmlformats.org/officeDocument/2006/relationships/slide" Target="slide53.xml"/><Relationship Id="rId30" Type="http://schemas.openxmlformats.org/officeDocument/2006/relationships/slide" Target=""/><Relationship Id="rId31" Type="http://schemas.openxmlformats.org/officeDocument/2006/relationships/image" Target="../media/image2.png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imes New Roman"/>
              </a:rPr>
              <a:t>Instructions for using this game.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member this is Jeopardy, so the prompt the students will see is the “Answer”, and the student’s response should be the“Question”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hen clicking on the slide to move to the next appropriate slide, be sure you see the hand, not the arrow.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(If you put your cursor over a text box, it will be an arrow and WILL NOT take you to the right location.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647640" y="2666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parallel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85800" y="13716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lowers of these plants have parts in groups of this number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85800" y="26971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re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9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09480" y="11430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male reproductive structure of the flower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85800" y="24685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stame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09480" y="990720"/>
            <a:ext cx="79250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9933"/>
                </a:solidFill>
                <a:latin typeface="Times New Roman"/>
              </a:rPr>
              <a:t>Number of cotyledons in these plants.</a:t>
            </a:r>
            <a:endParaRPr b="1" lang="en-US" sz="10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wo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723960" y="944640"/>
            <a:ext cx="7696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33"/>
                </a:solidFill>
                <a:latin typeface="Times New Roman"/>
              </a:rPr>
              <a:t>Leaves of these plants have their veins arranged in this manner</a:t>
            </a:r>
            <a:endParaRPr b="1" lang="en-US" sz="8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85800" y="11430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33"/>
                </a:solidFill>
                <a:latin typeface="Times New Roman"/>
              </a:rPr>
              <a:t>What is branching veins?</a:t>
            </a:r>
            <a:endParaRPr b="1" lang="en-US" sz="9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09480" y="990720"/>
            <a:ext cx="7925040" cy="61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lowers of these plants have parts in groups of these number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" name="AutoShape 7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is%20is%20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wo, four, or fiv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533520" y="13716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rrangement of the vascular bundles in the stems of these plant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ring of vascular bundl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3520" y="533520"/>
            <a:ext cx="8076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se cells transport sugars and other nutrients throughout the plant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47640" y="190512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33"/>
                </a:solidFill>
                <a:latin typeface="Times New Roman"/>
              </a:rPr>
              <a:t>What are phloem?</a:t>
            </a:r>
            <a:endParaRPr b="1" lang="en-US" sz="9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09480" y="13716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33"/>
                </a:solidFill>
                <a:latin typeface="Times New Roman"/>
              </a:rPr>
              <a:t>This structure encloses the seeds </a:t>
            </a:r>
            <a:endParaRPr b="1" lang="en-US" sz="9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fruit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09480" y="1371600"/>
            <a:ext cx="80010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9933"/>
                </a:solidFill>
                <a:latin typeface="Times New Roman"/>
              </a:rPr>
              <a:t>Stored food in the seed.</a:t>
            </a:r>
            <a:endParaRPr b="1" lang="en-US" sz="10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endosperm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09480" y="380880"/>
            <a:ext cx="79250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9933"/>
                </a:solidFill>
                <a:latin typeface="Times New Roman"/>
              </a:rPr>
              <a:t>The reproductive structure of these plants.</a:t>
            </a:r>
            <a:endParaRPr b="1" lang="en-US" sz="8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3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AutoShape 10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flower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33520" y="1752480"/>
            <a:ext cx="80769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9933"/>
                </a:solidFill>
                <a:latin typeface="Times New Roman"/>
              </a:rPr>
              <a:t>Monocots and Dicots</a:t>
            </a:r>
            <a:endParaRPr b="1" lang="en-US" sz="10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685800" y="16002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the two major subgroups of angiosperm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33520" y="175248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immature male gametophyte of these plants.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pollen grai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85800" y="164628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Reproductive structures of this class of plant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con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09480" y="19051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onifers, Cycads,  Ginko, and Gnetophyte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85800" y="164628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the four types of gymnosperm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762120" y="838080"/>
            <a:ext cx="761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Seeds of this group of plants are not encased in this food supplying structur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4">
            <a:hlinkClick r:id="rId1" action="ppaction://hlinksldjump"/>
          </p:cNvPr>
          <p:cNvSpPr/>
          <p:nvPr/>
        </p:nvSpPr>
        <p:spPr>
          <a:xfrm>
            <a:off x="18288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Dicots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AutoShape 26">
            <a:hlinkClick r:id="rId2" action="ppaction://hlinksldjump"/>
          </p:cNvPr>
          <p:cNvSpPr/>
          <p:nvPr/>
        </p:nvSpPr>
        <p:spPr>
          <a:xfrm>
            <a:off x="54864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Times New Roman"/>
              </a:rPr>
              <a:t>Gymnosperm</a:t>
            </a:r>
            <a:endParaRPr b="1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AutoShape 27">
            <a:hlinkClick r:id="rId3" action="ppaction://hlinksldjump"/>
          </p:cNvPr>
          <p:cNvSpPr/>
          <p:nvPr/>
        </p:nvSpPr>
        <p:spPr>
          <a:xfrm>
            <a:off x="734364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Vascular vs Nonvascular</a:t>
            </a:r>
            <a:endParaRPr b="1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AutoShape 29"/>
          <p:cNvSpPr/>
          <p:nvPr/>
        </p:nvSpPr>
        <p:spPr>
          <a:xfrm>
            <a:off x="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4" action="ppaction://hlinksldjump"/>
              </a:rPr>
              <a:t>10 </a:t>
            </a: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Point</a:t>
            </a: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AutoShape 30"/>
          <p:cNvSpPr/>
          <p:nvPr/>
        </p:nvSpPr>
        <p:spPr>
          <a:xfrm>
            <a:off x="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AutoShape 31"/>
          <p:cNvSpPr/>
          <p:nvPr/>
        </p:nvSpPr>
        <p:spPr>
          <a:xfrm>
            <a:off x="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AutoShape 32"/>
          <p:cNvSpPr/>
          <p:nvPr/>
        </p:nvSpPr>
        <p:spPr>
          <a:xfrm>
            <a:off x="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AutoShape 33"/>
          <p:cNvSpPr/>
          <p:nvPr/>
        </p:nvSpPr>
        <p:spPr>
          <a:xfrm>
            <a:off x="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AutoShape 34"/>
          <p:cNvSpPr/>
          <p:nvPr/>
        </p:nvSpPr>
        <p:spPr>
          <a:xfrm>
            <a:off x="18288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10 Point</a:t>
            </a: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AutoShape 35"/>
          <p:cNvSpPr/>
          <p:nvPr/>
        </p:nvSpPr>
        <p:spPr>
          <a:xfrm>
            <a:off x="36576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AutoShape 36"/>
          <p:cNvSpPr/>
          <p:nvPr/>
        </p:nvSpPr>
        <p:spPr>
          <a:xfrm>
            <a:off x="54864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AutoShape 37"/>
          <p:cNvSpPr/>
          <p:nvPr/>
        </p:nvSpPr>
        <p:spPr>
          <a:xfrm>
            <a:off x="734364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10 Point</a:t>
            </a: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AutoShape 39"/>
          <p:cNvSpPr/>
          <p:nvPr/>
        </p:nvSpPr>
        <p:spPr>
          <a:xfrm>
            <a:off x="18288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AutoShape 40"/>
          <p:cNvSpPr/>
          <p:nvPr/>
        </p:nvSpPr>
        <p:spPr>
          <a:xfrm>
            <a:off x="36576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AutoShape 41"/>
          <p:cNvSpPr/>
          <p:nvPr/>
        </p:nvSpPr>
        <p:spPr>
          <a:xfrm>
            <a:off x="54864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AutoShape 42"/>
          <p:cNvSpPr/>
          <p:nvPr/>
        </p:nvSpPr>
        <p:spPr>
          <a:xfrm>
            <a:off x="734364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AutoShape 44"/>
          <p:cNvSpPr/>
          <p:nvPr/>
        </p:nvSpPr>
        <p:spPr>
          <a:xfrm>
            <a:off x="18288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AutoShape 45"/>
          <p:cNvSpPr/>
          <p:nvPr/>
        </p:nvSpPr>
        <p:spPr>
          <a:xfrm>
            <a:off x="18288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5" name="AutoShape 46"/>
          <p:cNvSpPr/>
          <p:nvPr/>
        </p:nvSpPr>
        <p:spPr>
          <a:xfrm>
            <a:off x="18288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AutoShape 47"/>
          <p:cNvSpPr/>
          <p:nvPr/>
        </p:nvSpPr>
        <p:spPr>
          <a:xfrm>
            <a:off x="36576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AutoShape 48"/>
          <p:cNvSpPr/>
          <p:nvPr/>
        </p:nvSpPr>
        <p:spPr>
          <a:xfrm>
            <a:off x="54864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AutoShape 49"/>
          <p:cNvSpPr/>
          <p:nvPr/>
        </p:nvSpPr>
        <p:spPr>
          <a:xfrm>
            <a:off x="734364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9" name="AutoShape 51"/>
          <p:cNvSpPr/>
          <p:nvPr/>
        </p:nvSpPr>
        <p:spPr>
          <a:xfrm>
            <a:off x="36576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AutoShape 52"/>
          <p:cNvSpPr/>
          <p:nvPr/>
        </p:nvSpPr>
        <p:spPr>
          <a:xfrm>
            <a:off x="54864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AutoShape 53"/>
          <p:cNvSpPr/>
          <p:nvPr/>
        </p:nvSpPr>
        <p:spPr>
          <a:xfrm>
            <a:off x="734364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AutoShape 55"/>
          <p:cNvSpPr/>
          <p:nvPr/>
        </p:nvSpPr>
        <p:spPr>
          <a:xfrm>
            <a:off x="36576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3" name="AutoShape 56"/>
          <p:cNvSpPr/>
          <p:nvPr/>
        </p:nvSpPr>
        <p:spPr>
          <a:xfrm>
            <a:off x="54864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4" name="AutoShape 57"/>
          <p:cNvSpPr/>
          <p:nvPr/>
        </p:nvSpPr>
        <p:spPr>
          <a:xfrm>
            <a:off x="734364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9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5" name="AutoShape 60">
            <a:hlinkClick r:id="rId30" action="ppaction://hlinksldjump"/>
          </p:cNvPr>
          <p:cNvSpPr/>
          <p:nvPr/>
        </p:nvSpPr>
        <p:spPr>
          <a:xfrm>
            <a:off x="36576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Angiosperm</a:t>
            </a:r>
            <a:endParaRPr b="1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6" name="Picture 61" descr=""/>
          <p:cNvPicPr/>
          <p:nvPr/>
        </p:nvPicPr>
        <p:blipFill>
          <a:blip r:embed="rId31"/>
          <a:stretch/>
        </p:blipFill>
        <p:spPr>
          <a:xfrm>
            <a:off x="6858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23">
            <a:hlinkClick r:id="rId32" action="ppaction://hlinksldjump"/>
          </p:cNvPr>
          <p:cNvSpPr/>
          <p:nvPr/>
        </p:nvSpPr>
        <p:spPr>
          <a:xfrm>
            <a:off x="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Monocots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fruit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33520" y="1143000"/>
            <a:ext cx="815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se plants rely on this weather phenomenon to spread pollen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685800" y="26971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wind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09480" y="1050840"/>
            <a:ext cx="79250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e cones of this common tree, grown for its wood in the South, may take up to two years to mature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pine tre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5800" y="19810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amiliar example of a nonvascular plant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685800" y="26971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moss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33520" y="106668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air-like projections that resemble roots in nonvascular plant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685800" y="26971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rhizoid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85800" y="16765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Underground stem in these simple vascular plant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800280" y="700200"/>
            <a:ext cx="7543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9933"/>
                </a:solidFill>
                <a:latin typeface="Times New Roman"/>
              </a:rPr>
              <a:t>Leaf-like structures that are part of the plant embryo.</a:t>
            </a:r>
            <a:endParaRPr b="1" lang="en-US" sz="8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rhizom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609480" y="123516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Seedless plants require this liquid medium for sexual reproduction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85800" y="26971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water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685800" y="990720"/>
            <a:ext cx="7772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Structure in vascular plants that transport water and nutrients from the roots.</a:t>
            </a:r>
            <a:endParaRPr b="1" lang="en-US" sz="6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xylem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5" name="WordArt 4"/>
          <p:cNvSpPr txBox="1"/>
          <p:nvPr/>
        </p:nvSpPr>
        <p:spPr>
          <a:xfrm>
            <a:off x="1066680" y="68580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4191120" y="539424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1" lang="en-US" sz="3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741240" y="3863880"/>
            <a:ext cx="786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Category:  Examples of Monocot Angiosperms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hinktheme[1]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2">
            <a:hlinkClick r:id="" action="ppaction://hlinkshowjump?jump=la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647640" y="63972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is plant is an important grain and is native to North America.  It is a common example of  a monocot angiosperm</a:t>
            </a:r>
            <a:r>
              <a:rPr b="1" lang="en-US" sz="6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647640" y="243828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9933"/>
                </a:solidFill>
                <a:latin typeface="Times New Roman"/>
              </a:rPr>
              <a:t>What is corn?</a:t>
            </a:r>
            <a:endParaRPr b="1" lang="en-US" sz="8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cotyledon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762120" y="1295280"/>
            <a:ext cx="746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number of cotyledons of this class of angiosperm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on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9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14400" y="914400"/>
            <a:ext cx="7467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33"/>
                </a:solidFill>
                <a:latin typeface="Times New Roman"/>
              </a:rPr>
              <a:t>Leaves of these plants have their veins arranged in this manner.</a:t>
            </a:r>
            <a:endParaRPr b="1" lang="en-US" sz="8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lrobinson</cp:lastModifiedBy>
  <dcterms:modified xsi:type="dcterms:W3CDTF">2008-02-25T16:53:35Z</dcterms:modified>
  <cp:revision>45</cp:revision>
  <dc:subject/>
  <dc:title>No Slide Title</dc:title>
</cp:coreProperties>
</file>